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7047-990B-4654-A370-DCE01BBEF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2FC8-C29B-4BDA-93E0-FEF45BF8E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: vibrational (vibrate around a fixed po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s: vibrational and rotational (particles rotate and change pos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8174-CA9A-4EE7-AD49-3A8EA2517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static: oppositely charged particles attract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: particles are not charged but attractions can still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olecular: between neutral molecules or molecules an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9505-26D5-42A5-80D6-6042539E5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B933-4A83-472B-A2F3-BB7C6E457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articles take up hardly any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articles do not attract one an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llows us to make generalizations about real g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CF8-9D6C-4D9E-AA31-D1851F84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44B-0698-4E77-A7DB-5029F489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F03-4DDB-46C9-BBA1-22D7D6CA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A53-8003-4CE8-A629-C7D3F00B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CC7-8444-4195-94A2-57A6CAB9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58C-C9EB-4FC7-8356-337D0D87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C2E-6A5E-4174-B364-2EF1D46F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E96-4786-4F11-AD52-F41A6297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2C8-081B-437E-B647-FB014CCA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F66A-13D9-4FB2-843D-9544E659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F1F-3E5B-466A-8CDC-1951EB5C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0F1-2B02-4457-B843-A5F9C310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E2C1-E08C-47B9-9151-34ECE904A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Particle Theory and the Kinetic Molecular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Particle Theory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is made up of tiny particles (atoms, ions, molecules) that are in constant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icles have spaces betwee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raw particle diagrams to describe and compare the relative spacing of particles in solids, liquids and g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Arial"/>
              </a:rPr>
              <a:t>Remember the two “other states” as per notes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4495680"/>
          <a:ext cx="7925040" cy="21337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181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Solids and Liq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particles cannot move 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ompr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brational motion (sol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brational, rotational, and translational motion (liqu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52280" y="34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3352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able to move 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tion is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lational motion is most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Forces Between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ticles are held together by strong attractive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escribe and compare the relative attractive forces between particles in solids, liquids and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rength of attractive forces between particles depend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of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ypes of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ttractions Between Charged Parti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trostatic attraction e.g. ionic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ttractions Between Polar Molec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molecular fo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pole-di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s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ttractions Between Non-Polar Molec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ndon forces (temporary dipo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k and tempo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 on size (forces add 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Temp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ed to kinetic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en hea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les move faster and have more coll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er kinetic energy (helps to overcome attractive fo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e up more space making the object exp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en coo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Kinetic Molecular Theory of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e the Kinetic Molecular Theory of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KMT describes a hypothetical gas called an ide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al G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05:58Z</dcterms:created>
  <dc:creator>Fiona Smith</dc:creator>
  <dc:description/>
  <dc:language>en-US</dc:language>
  <cp:lastModifiedBy>TCDSB</cp:lastModifiedBy>
  <dcterms:modified xsi:type="dcterms:W3CDTF">2013-12-15T17:10:56Z</dcterms:modified>
  <cp:revision>14</cp:revision>
  <dc:subject/>
  <dc:title>Particle Theory and the Kinetic Molecular Theory</dc:title>
</cp:coreProperties>
</file>